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DA0-57B2-4B01-8A99-5D4EF911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72A-1500-4C8F-9F9E-6E78AB1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976-84C4-4CB3-9EB1-ECF94857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45F-D2CD-4464-9C95-D92E3A5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6889-B2E5-4C31-ABB8-35ACA712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CC50-85BC-4390-B3D5-DCAA9F3C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087-BBF9-4898-8AF5-BB655824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A40-B1D6-417F-9448-E62108D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1BE-C778-4A93-B013-B9D4C964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8893-EDA7-4A0F-B624-159F9B4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E075-C07F-4AE5-9ED1-1CEE4C7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ACE-B75F-4592-A724-D9F9F04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2880-AA4C-4118-A0E4-C3B71A5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9A9-4F40-4CC0-A13F-D671BFE3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19AF-0211-40AA-9E1B-6159F7D8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8E21-593B-48B3-8912-48A5BF1B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74AA-CDED-4031-ACE2-32BF06BE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594-9920-4EE6-BEA2-4E9FCF0D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ACA-F535-4A54-A62E-3A38C8A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C63-0E8C-4076-A0C2-6265B688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953-3AB1-4A3A-A497-D8F743B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46B-0FC0-4E99-AF5F-7D1EB5D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1ED-99F8-44A7-A041-8B4B501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BD7-C0C6-485A-8899-5D99906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E5B1-5F53-4CEE-87BE-B58EF7410D3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EC7-D35F-42D6-9759-7AA4E9EED67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7d47d"/>
                </a:solidFill>
                <a:latin typeface="Arial"/>
              </a:rPr>
              <a:t>Mis Vacaciones en San Juan, Puerto Ric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Fui a la Caribe Hilton San Ju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353040" cy="270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200400" cy="2132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19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livia Barbie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lnear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rida Bella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la! Hoy hace buen tiempo. El sol brilla en el cielo. Hoy llegu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é a la Caribe Hilton San Juan. Llevé muchas ropas y dos trajes de baño. El balneario es muy bonito. Tiene una piscina grande y muchas tiendas. En una tienda cerca del hotel, compré la crema protectora porque mañana voy ir a la playa. ¡Adiós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3295800" cy="2436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172200" y="6019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c1605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alnear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Pla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rida Meghan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y hace calor. El sol brilla en el cielo. Fui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 a la playa con mi familia. Mi madre llevó una toalla playera porque ella tomó el sol. Yo no tomé el sol, y yo no practicé el surfing. Nadé en el mar, y buceé en el mar, también. Mi prima y yo buceamos y miramos muchos pescados. Mañana, voy a jugar al teni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3124080" cy="2344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8120" y="5638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Play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Ten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38648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rida Eveline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y hace buen tiempo! Hace sol y hace color. El sol brilla en el cielo. No llueve. No es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á nublado. Fui a la cancha de tenis al aire libre. Jugué al tenis con mi amiga. Llevé mi raqueta y una pelota. Mi amiga llevó sus raquetas. Ella marcó dos tantos y yo marqué tres tantos. Gané el parti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038480" y="4038480"/>
            <a:ext cx="3353040" cy="258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0" y="4419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def"/>
                </a:solidFill>
                <a:latin typeface="Arial"/>
              </a:rPr>
              <a:t>La Cancha De Ten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Mus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Querida Isabel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y hace mal tiempo. Est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á nublado y llueve.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ui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 al museo con mis amigas. Fuimos al Museo de San Juan. Miramos un video de San Juan. Después fuimos al museo, fuimos a las tiendas. En una tienda, compré recuerdos, como una camiseta con las palabras “San Juan,” unas gafas de sol, y un sobrero. Mis amigas compraron la misma camiseta. ¡Hoy fue muy divertida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Museo de San Juan"/>
          <p:cNvPicPr/>
          <p:nvPr/>
        </p:nvPicPr>
        <p:blipFill>
          <a:blip r:embed="rId1"/>
          <a:stretch/>
        </p:blipFill>
        <p:spPr>
          <a:xfrm>
            <a:off x="304920" y="3733920"/>
            <a:ext cx="3504960" cy="2643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3716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use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5638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def"/>
                </a:solidFill>
                <a:latin typeface="Arial"/>
              </a:rPr>
              <a:t>Las Tiend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Piscina y El Restauran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8520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Querida Catherinn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la!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y hace buen tiempo! Hoy fui a la piscina con mi familia. Lle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é mi traje de baño. Nadé con mi prima. No nadé en el mar. Después fui a la piscina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fui al restaurante de Ramiro’s con mi familia. Mi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padre tomó unas enchiladas, y mi prima tomó unos enchiladas también, pero yo no las tomé.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m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é unas tac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3200400" cy="2401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3200400" cy="2396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6019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Pisci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amiro’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3:07Z</dcterms:created>
  <dc:creator>barbierioli</dc:creator>
  <dc:description/>
  <dc:language>en-US</dc:language>
  <cp:lastModifiedBy>barbierioli</cp:lastModifiedBy>
  <dcterms:modified xsi:type="dcterms:W3CDTF">2011-11-29T15:08:53Z</dcterms:modified>
  <cp:revision>28</cp:revision>
  <dc:subject/>
  <dc:title>Mis Vacaciones en San Juan, Puerto Rico</dc:title>
</cp:coreProperties>
</file>